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AD3-0977-4B29-AF24-29D944D1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DB2-F1B4-46FA-BD23-2A1CB920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199-B888-488F-B774-D2F0DC8C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CC3-2125-496E-BA36-C3282FFC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EEE-469B-4CAA-B1C5-CC8B802A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F12-67F8-4891-B362-34FA6059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A00-7D23-4519-BB82-3DAEA95D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F6B-1E90-47D8-89A7-D3454B64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DCC-09B6-4492-9773-CFE0AA17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03A-758F-4304-B797-72E2E0C8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AA6-3096-4BA7-9452-FC81E845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04D-5FDE-407A-B8E7-C6B927C8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4626-AE38-4537-9F33-FD4829E47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66294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4876920"/>
            <a:ext cx="2057400" cy="13716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209680"/>
            <a:ext cx="2133720" cy="19051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10080" y="5334120"/>
            <a:ext cx="27432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724280"/>
            <a:ext cx="1600200" cy="1219320"/>
          </a:xfrm>
          <a:prstGeom prst="diamond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1066680"/>
            <a:ext cx="1752480" cy="6858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5190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5627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16/60 + 14/60 + 12/60 +10/60 + 8/60 = 60/60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410080"/>
            <a:ext cx="4267080" cy="120276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lue = 4/15               Yellow = 7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reen = 1/5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Purple =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ed = 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0596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0292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/80 + 2/80 + 3/80 + 4/80 +5/80 + 6/80 + 7/80 + 8/80 + 8/80 + 8/80 + 7/80 + 6/80 + 5/80 + 4/80 + 3/80 + 2/80 + 1/80 = 80/80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4724280"/>
            <a:ext cx="5562720" cy="1928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rown = 1/80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avy = 1/4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t. Blue = 3/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range = 1/20              Red = 1/16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Violet = 3/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urquoise = 7/8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Yellow = 1/1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agenta = 1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reen = 1/1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lue = 7/8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uschia = 3/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t. Yellow = 1/16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t. Green = 1/2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k. Purple = 3/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k. Green = 1/40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urple = 1/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745480" cy="519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56386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65/78 + 13/78 = 78/78   =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5715000"/>
            <a:ext cx="2361960" cy="7855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ange = 5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lack = 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6054"/>
          <a:stretch/>
        </p:blipFill>
        <p:spPr>
          <a:xfrm>
            <a:off x="228600" y="533520"/>
            <a:ext cx="8745480" cy="487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5638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/161 + 9/161 + 10/161 + 13/161 + 15/161 +14/161 + 5/161 + 21/161 + 9/161 + 3/161 + 5/161 + 6/161 +10/161 + 10/161 + 10/161 + 5/161 + 5/16 = 161/161 =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8:06:36Z</dcterms:created>
  <dc:creator>Patrick Mooney</dc:creator>
  <dc:description/>
  <dc:language>en-US</dc:language>
  <cp:lastModifiedBy>Patrick Mooney</cp:lastModifiedBy>
  <dcterms:modified xsi:type="dcterms:W3CDTF">2009-10-15T14:29:48Z</dcterms:modified>
  <cp:revision>6</cp:revision>
  <dc:subject/>
  <dc:title>Slide 1</dc:title>
</cp:coreProperties>
</file>